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8181-608E-434D-B123-6EFB06EC1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RL doesn’t just exist by itself.” Possible pear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he stage for the EL component, multiple intellig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guistic forms are semantic in 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ry forms are stored as mental pictures, or physical sen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s the question, ‘As familiar as we are with nonlinguistic forms Are we using nonlinguistic forms as much we could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ole as coaches is to foster/promote these types of instructional techn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ive NLR tools are applicable in a wide variety of mediums: EL instruction, whole class instruction, multiple instru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re looking at the benefit of this  instructional technique through somewhat of an artificial lens.  Several inter-related factors combine to create excellent pedagogy.  We need to be thoughtful in our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DFF6-9C75-4298-8D55-7AD62034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570-F0C6-4CDF-B896-66CFFCFC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E088-5075-4AF7-B66E-471C27B5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5CEE-97DA-482E-BCCF-06A171DD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1E2-A650-4222-A41B-41817759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E522-5F16-4DA1-9699-BB1D3805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8F78-C197-4761-8AD2-5CEC9585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90B-624B-4FF5-AD96-1604DB78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870-8408-470A-9B8D-AA958EE7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AF1E-61B1-4CE1-87C6-163163D7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5A1-5239-484E-8541-2FE6D267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137B-90AF-41CC-9E6E-39BF9719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12D2-0AA6-4474-85DF-E98E698F5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linguistic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ed from Marzano….bl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al Coaches, Reading Coaches, Learning Coordi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13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linguistic Representation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652840" y="1727280"/>
            <a:ext cx="3838320" cy="4267080"/>
            <a:chOff x="2652840" y="1727280"/>
            <a:chExt cx="3838320" cy="4267080"/>
          </a:xfrm>
        </p:grpSpPr>
        <p:sp>
          <p:nvSpPr>
            <p:cNvPr id="52" name="_s3130"/>
            <p:cNvSpPr/>
            <p:nvPr/>
          </p:nvSpPr>
          <p:spPr>
            <a:xfrm flipH="1" flipV="1">
              <a:off x="3647880" y="3327120"/>
              <a:ext cx="46332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100"/>
            <p:cNvSpPr/>
            <p:nvPr/>
          </p:nvSpPr>
          <p:spPr>
            <a:xfrm>
              <a:off x="2652840" y="25272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29"/>
            <p:cNvSpPr/>
            <p:nvPr/>
          </p:nvSpPr>
          <p:spPr>
            <a:xfrm flipH="1">
              <a:off x="3647880" y="41274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098"/>
            <p:cNvSpPr/>
            <p:nvPr/>
          </p:nvSpPr>
          <p:spPr>
            <a:xfrm>
              <a:off x="2652840" y="41274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128"/>
            <p:cNvSpPr/>
            <p:nvPr/>
          </p:nvSpPr>
          <p:spPr>
            <a:xfrm>
              <a:off x="4572000" y="439272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3085"/>
            <p:cNvSpPr/>
            <p:nvPr/>
          </p:nvSpPr>
          <p:spPr>
            <a:xfrm>
              <a:off x="4038480" y="492768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127"/>
            <p:cNvSpPr/>
            <p:nvPr/>
          </p:nvSpPr>
          <p:spPr>
            <a:xfrm>
              <a:off x="5032440" y="41274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116"/>
            <p:cNvSpPr/>
            <p:nvPr/>
          </p:nvSpPr>
          <p:spPr>
            <a:xfrm>
              <a:off x="5424480" y="41274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126"/>
            <p:cNvSpPr/>
            <p:nvPr/>
          </p:nvSpPr>
          <p:spPr>
            <a:xfrm flipV="1">
              <a:off x="5032440" y="3327120"/>
              <a:ext cx="46332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083"/>
            <p:cNvSpPr/>
            <p:nvPr/>
          </p:nvSpPr>
          <p:spPr>
            <a:xfrm>
              <a:off x="5424480" y="25272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125"/>
            <p:cNvSpPr/>
            <p:nvPr/>
          </p:nvSpPr>
          <p:spPr>
            <a:xfrm flipV="1">
              <a:off x="4572000" y="279396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081"/>
            <p:cNvSpPr/>
            <p:nvPr/>
          </p:nvSpPr>
          <p:spPr>
            <a:xfrm>
              <a:off x="4038480" y="172728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080"/>
            <p:cNvSpPr/>
            <p:nvPr/>
          </p:nvSpPr>
          <p:spPr>
            <a:xfrm>
              <a:off x="4038480" y="3328920"/>
              <a:ext cx="106704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is stored two way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inguistic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agery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theory has been called “dual-cod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see Paivio, 1969, 1971, 199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Idea continu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re we use both systems of representation -- linguistic and non-linguistic -- the better we are able to recall knowledge.” (pg 7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rls of Wis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just seems so perfect for EL instruc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andurand &amp; Pope, 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Doesn’t Tell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room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/how often do you have to do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y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 backg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s of diff ap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7:52:49Z</dcterms:created>
  <dc:creator>willard.pope</dc:creator>
  <dc:description/>
  <dc:language>en-US</dc:language>
  <cp:lastModifiedBy>willard.pope</cp:lastModifiedBy>
  <dcterms:modified xsi:type="dcterms:W3CDTF">2009-02-14T19:46:39Z</dcterms:modified>
  <cp:revision>4</cp:revision>
  <dc:subject/>
  <dc:title>Nonlinguistic Representations</dc:title>
</cp:coreProperties>
</file>